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eopardy-short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Applause.wav" ContentType="audio/x-wav"/>
  <Override PartName="/ppt/media/jeopard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570-00FC-4FB5-8D0A-BEDD31FB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690-7461-4EC0-83FF-194EDC3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A8A-18E7-4BC0-94C6-9319422F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5A3-55D7-47E6-A4E1-BD2343B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D0E-C98E-44D6-ACB4-F40C3574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39BA-06FC-4714-9B59-88B5CB2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CE1A-4BD9-4BE5-8E80-FCED70B7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170-5F04-414F-8F74-D96416E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761-9A0D-4308-9EA1-C1262E4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F904-7A37-46DE-92DE-79D6F496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69A9-D9CE-4773-A71B-F118C60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0EC-96E2-4148-9559-BEEF389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00F-5744-4FAD-BE74-F7E7DE4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DC2E-C75B-4F06-ABCB-40D6C64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378A-F858-47ED-ACCF-9055EB7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1D66-3D5A-4888-96B1-96ED9134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9A40-061C-4A37-9DC4-B6181BE3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B27-267F-4458-9362-1533CF1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64-500C-4E0F-A778-B10AB7A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D08-6747-4046-B8E1-1D68B13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4E4-6238-4772-B624-BF9C53D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516-59E7-4EB9-ACC7-6D7CA49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6F3-311F-4127-B2FB-249B99C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E32-8635-4FCC-B944-4CF875E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8349-2F6D-4CA2-A8A7-E96F4AC568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9BB2-B04A-443D-A895-C6896401BE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-short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4520" y="1203480"/>
            <a:ext cx="19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howcard Gothic"/>
              </a:rPr>
              <a:t>Th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1320" y="3184560"/>
            <a:ext cx="33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Showcard Gothic"/>
              </a:rPr>
              <a:t>Account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2193840"/>
            <a:ext cx="6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Showcard Gothic"/>
              </a:rPr>
              <a:t>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4840" y="437976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Showcard Gothic"/>
              </a:rPr>
              <a:t>J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2040" y="438768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O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0" y="438156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5360" y="438768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P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8240" y="438300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E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8040" y="4384800"/>
            <a:ext cx="10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R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9120" y="438624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D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5520" y="4376880"/>
            <a:ext cx="10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Showcard Gothic"/>
              </a:rPr>
              <a:t>Y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228600"/>
            <a:ext cx="804960" cy="712800"/>
            <a:chOff x="228600" y="228600"/>
            <a:chExt cx="804960" cy="712800"/>
          </a:xfrm>
        </p:grpSpPr>
        <p:sp>
          <p:nvSpPr>
            <p:cNvPr id="115" name=""/>
            <p:cNvSpPr/>
            <p:nvPr/>
          </p:nvSpPr>
          <p:spPr>
            <a:xfrm>
              <a:off x="2286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55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00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5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0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08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228600"/>
            <a:ext cx="804600" cy="712800"/>
            <a:chOff x="1219320" y="228600"/>
            <a:chExt cx="804600" cy="712800"/>
          </a:xfrm>
        </p:grpSpPr>
        <p:sp>
          <p:nvSpPr>
            <p:cNvPr id="123" name=""/>
            <p:cNvSpPr/>
            <p:nvPr/>
          </p:nvSpPr>
          <p:spPr>
            <a:xfrm>
              <a:off x="1219320" y="22860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3120" y="35244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5920" y="29700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0400" y="33336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50880" y="39384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8400" y="4446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1240" y="53028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09680" y="228600"/>
            <a:ext cx="804960" cy="712800"/>
            <a:chOff x="2209680" y="228600"/>
            <a:chExt cx="804960" cy="712800"/>
          </a:xfrm>
        </p:grpSpPr>
        <p:sp>
          <p:nvSpPr>
            <p:cNvPr id="131" name=""/>
            <p:cNvSpPr/>
            <p:nvPr/>
          </p:nvSpPr>
          <p:spPr>
            <a:xfrm>
              <a:off x="22096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38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766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11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16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91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19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153280" y="228600"/>
            <a:ext cx="804960" cy="712800"/>
            <a:chOff x="8153280" y="228600"/>
            <a:chExt cx="804960" cy="712800"/>
          </a:xfrm>
        </p:grpSpPr>
        <p:sp>
          <p:nvSpPr>
            <p:cNvPr id="139" name=""/>
            <p:cNvSpPr/>
            <p:nvPr/>
          </p:nvSpPr>
          <p:spPr>
            <a:xfrm>
              <a:off x="81532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074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202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7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52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327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755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162920" y="228600"/>
            <a:ext cx="804600" cy="712800"/>
            <a:chOff x="7162920" y="228600"/>
            <a:chExt cx="804600" cy="712800"/>
          </a:xfrm>
        </p:grpSpPr>
        <p:sp>
          <p:nvSpPr>
            <p:cNvPr id="147" name=""/>
            <p:cNvSpPr/>
            <p:nvPr/>
          </p:nvSpPr>
          <p:spPr>
            <a:xfrm>
              <a:off x="7162920" y="22860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16720" y="35244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9520" y="29700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04000" y="33336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94480" y="39384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2000" y="4446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84840" y="53028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72200" y="228600"/>
            <a:ext cx="804960" cy="712800"/>
            <a:chOff x="6172200" y="228600"/>
            <a:chExt cx="804960" cy="712800"/>
          </a:xfrm>
        </p:grpSpPr>
        <p:sp>
          <p:nvSpPr>
            <p:cNvPr id="155" name=""/>
            <p:cNvSpPr/>
            <p:nvPr/>
          </p:nvSpPr>
          <p:spPr>
            <a:xfrm>
              <a:off x="61722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263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391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36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041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16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81480" y="228600"/>
            <a:ext cx="804960" cy="712800"/>
            <a:chOff x="5181480" y="228600"/>
            <a:chExt cx="804960" cy="712800"/>
          </a:xfrm>
        </p:grpSpPr>
        <p:sp>
          <p:nvSpPr>
            <p:cNvPr id="163" name=""/>
            <p:cNvSpPr/>
            <p:nvPr/>
          </p:nvSpPr>
          <p:spPr>
            <a:xfrm>
              <a:off x="518148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3564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844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292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40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6092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0376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168800" y="228600"/>
            <a:ext cx="804960" cy="712800"/>
            <a:chOff x="4168800" y="228600"/>
            <a:chExt cx="804960" cy="712800"/>
          </a:xfrm>
        </p:grpSpPr>
        <p:sp>
          <p:nvSpPr>
            <p:cNvPr id="171" name=""/>
            <p:cNvSpPr/>
            <p:nvPr/>
          </p:nvSpPr>
          <p:spPr>
            <a:xfrm>
              <a:off x="41688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29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57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102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07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82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200400" y="228600"/>
            <a:ext cx="804960" cy="712800"/>
            <a:chOff x="3200400" y="228600"/>
            <a:chExt cx="804960" cy="712800"/>
          </a:xfrm>
        </p:grpSpPr>
        <p:sp>
          <p:nvSpPr>
            <p:cNvPr id="179" name=""/>
            <p:cNvSpPr/>
            <p:nvPr/>
          </p:nvSpPr>
          <p:spPr>
            <a:xfrm>
              <a:off x="3200400" y="22860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4560" y="35244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7360" y="29700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41840" y="33336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2320" y="39384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9840" y="44460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22680" y="53028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2280" y="6019920"/>
            <a:ext cx="804960" cy="712800"/>
            <a:chOff x="152280" y="6019920"/>
            <a:chExt cx="804960" cy="712800"/>
          </a:xfrm>
        </p:grpSpPr>
        <p:sp>
          <p:nvSpPr>
            <p:cNvPr id="187" name=""/>
            <p:cNvSpPr/>
            <p:nvPr/>
          </p:nvSpPr>
          <p:spPr>
            <a:xfrm>
              <a:off x="1522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4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2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7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2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17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5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143000" y="6019920"/>
            <a:ext cx="804960" cy="712800"/>
            <a:chOff x="1143000" y="6019920"/>
            <a:chExt cx="804960" cy="712800"/>
          </a:xfrm>
        </p:grpSpPr>
        <p:sp>
          <p:nvSpPr>
            <p:cNvPr id="195" name=""/>
            <p:cNvSpPr/>
            <p:nvPr/>
          </p:nvSpPr>
          <p:spPr>
            <a:xfrm>
              <a:off x="114300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716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996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444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492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528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133720" y="6019920"/>
            <a:ext cx="804600" cy="712800"/>
            <a:chOff x="2133720" y="6019920"/>
            <a:chExt cx="804600" cy="712800"/>
          </a:xfrm>
        </p:grpSpPr>
        <p:sp>
          <p:nvSpPr>
            <p:cNvPr id="203" name=""/>
            <p:cNvSpPr/>
            <p:nvPr/>
          </p:nvSpPr>
          <p:spPr>
            <a:xfrm>
              <a:off x="21337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75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03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48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652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28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556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077320" y="6019920"/>
            <a:ext cx="804600" cy="712800"/>
            <a:chOff x="8077320" y="6019920"/>
            <a:chExt cx="804600" cy="712800"/>
          </a:xfrm>
        </p:grpSpPr>
        <p:sp>
          <p:nvSpPr>
            <p:cNvPr id="211" name=""/>
            <p:cNvSpPr/>
            <p:nvPr/>
          </p:nvSpPr>
          <p:spPr>
            <a:xfrm>
              <a:off x="80773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311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439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184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088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64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92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86600" y="6019920"/>
            <a:ext cx="804960" cy="712800"/>
            <a:chOff x="7086600" y="6019920"/>
            <a:chExt cx="804960" cy="712800"/>
          </a:xfrm>
        </p:grpSpPr>
        <p:sp>
          <p:nvSpPr>
            <p:cNvPr id="219" name=""/>
            <p:cNvSpPr/>
            <p:nvPr/>
          </p:nvSpPr>
          <p:spPr>
            <a:xfrm>
              <a:off x="708660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4076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356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804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852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6604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0888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95880" y="6019920"/>
            <a:ext cx="804960" cy="712800"/>
            <a:chOff x="6095880" y="6019920"/>
            <a:chExt cx="804960" cy="712800"/>
          </a:xfrm>
        </p:grpSpPr>
        <p:sp>
          <p:nvSpPr>
            <p:cNvPr id="227" name=""/>
            <p:cNvSpPr/>
            <p:nvPr/>
          </p:nvSpPr>
          <p:spPr>
            <a:xfrm>
              <a:off x="60958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500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628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373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278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53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81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105520" y="6019920"/>
            <a:ext cx="804600" cy="712800"/>
            <a:chOff x="5105520" y="6019920"/>
            <a:chExt cx="804600" cy="712800"/>
          </a:xfrm>
        </p:grpSpPr>
        <p:sp>
          <p:nvSpPr>
            <p:cNvPr id="235" name=""/>
            <p:cNvSpPr/>
            <p:nvPr/>
          </p:nvSpPr>
          <p:spPr>
            <a:xfrm>
              <a:off x="5105520" y="6019920"/>
              <a:ext cx="80460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59320" y="6143760"/>
              <a:ext cx="32364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72120" y="6088320"/>
              <a:ext cx="24876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6600" y="6124680"/>
              <a:ext cx="19656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6185160"/>
              <a:ext cx="15984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4600" y="623592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27440" y="6321600"/>
              <a:ext cx="2196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092480" y="6019920"/>
            <a:ext cx="804960" cy="712800"/>
            <a:chOff x="4092480" y="6019920"/>
            <a:chExt cx="804960" cy="712800"/>
          </a:xfrm>
        </p:grpSpPr>
        <p:sp>
          <p:nvSpPr>
            <p:cNvPr id="243" name=""/>
            <p:cNvSpPr/>
            <p:nvPr/>
          </p:nvSpPr>
          <p:spPr>
            <a:xfrm>
              <a:off x="40924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66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4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39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244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719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47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24080" y="6019920"/>
            <a:ext cx="804960" cy="712800"/>
            <a:chOff x="3124080" y="6019920"/>
            <a:chExt cx="804960" cy="712800"/>
          </a:xfrm>
        </p:grpSpPr>
        <p:sp>
          <p:nvSpPr>
            <p:cNvPr id="251" name=""/>
            <p:cNvSpPr/>
            <p:nvPr/>
          </p:nvSpPr>
          <p:spPr>
            <a:xfrm>
              <a:off x="3124080" y="6019920"/>
              <a:ext cx="804960" cy="712800"/>
            </a:xfrm>
            <a:custGeom>
              <a:avLst/>
              <a:gdLst/>
              <a:ahLst/>
              <a:rect l="l" t="t" r="r" b="b"/>
              <a:pathLst>
                <a:path w="1014" h="897">
                  <a:moveTo>
                    <a:pt x="959" y="35"/>
                  </a:moveTo>
                  <a:lnTo>
                    <a:pt x="944" y="39"/>
                  </a:lnTo>
                  <a:lnTo>
                    <a:pt x="927" y="44"/>
                  </a:lnTo>
                  <a:lnTo>
                    <a:pt x="909" y="48"/>
                  </a:lnTo>
                  <a:lnTo>
                    <a:pt x="892" y="53"/>
                  </a:lnTo>
                  <a:lnTo>
                    <a:pt x="874" y="56"/>
                  </a:lnTo>
                  <a:lnTo>
                    <a:pt x="854" y="60"/>
                  </a:lnTo>
                  <a:lnTo>
                    <a:pt x="834" y="62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15" y="65"/>
                  </a:lnTo>
                  <a:lnTo>
                    <a:pt x="803" y="66"/>
                  </a:lnTo>
                  <a:lnTo>
                    <a:pt x="792" y="67"/>
                  </a:lnTo>
                  <a:lnTo>
                    <a:pt x="779" y="68"/>
                  </a:lnTo>
                  <a:lnTo>
                    <a:pt x="768" y="68"/>
                  </a:lnTo>
                  <a:lnTo>
                    <a:pt x="755" y="69"/>
                  </a:lnTo>
                  <a:lnTo>
                    <a:pt x="744" y="69"/>
                  </a:lnTo>
                  <a:lnTo>
                    <a:pt x="731" y="69"/>
                  </a:lnTo>
                  <a:lnTo>
                    <a:pt x="718" y="69"/>
                  </a:lnTo>
                  <a:lnTo>
                    <a:pt x="706" y="69"/>
                  </a:lnTo>
                  <a:lnTo>
                    <a:pt x="693" y="69"/>
                  </a:lnTo>
                  <a:lnTo>
                    <a:pt x="679" y="68"/>
                  </a:lnTo>
                  <a:lnTo>
                    <a:pt x="666" y="68"/>
                  </a:lnTo>
                  <a:lnTo>
                    <a:pt x="654" y="67"/>
                  </a:lnTo>
                  <a:lnTo>
                    <a:pt x="641" y="66"/>
                  </a:lnTo>
                  <a:lnTo>
                    <a:pt x="628" y="65"/>
                  </a:lnTo>
                  <a:lnTo>
                    <a:pt x="616" y="63"/>
                  </a:lnTo>
                  <a:lnTo>
                    <a:pt x="603" y="61"/>
                  </a:lnTo>
                  <a:lnTo>
                    <a:pt x="590" y="60"/>
                  </a:lnTo>
                  <a:lnTo>
                    <a:pt x="578" y="58"/>
                  </a:lnTo>
                  <a:lnTo>
                    <a:pt x="565" y="55"/>
                  </a:lnTo>
                  <a:lnTo>
                    <a:pt x="552" y="53"/>
                  </a:lnTo>
                  <a:lnTo>
                    <a:pt x="541" y="51"/>
                  </a:lnTo>
                  <a:lnTo>
                    <a:pt x="528" y="48"/>
                  </a:lnTo>
                  <a:lnTo>
                    <a:pt x="517" y="45"/>
                  </a:lnTo>
                  <a:lnTo>
                    <a:pt x="502" y="39"/>
                  </a:lnTo>
                  <a:lnTo>
                    <a:pt x="487" y="35"/>
                  </a:lnTo>
                  <a:lnTo>
                    <a:pt x="471" y="30"/>
                  </a:lnTo>
                  <a:lnTo>
                    <a:pt x="455" y="25"/>
                  </a:lnTo>
                  <a:lnTo>
                    <a:pt x="437" y="22"/>
                  </a:lnTo>
                  <a:lnTo>
                    <a:pt x="421" y="18"/>
                  </a:lnTo>
                  <a:lnTo>
                    <a:pt x="404" y="15"/>
                  </a:lnTo>
                  <a:lnTo>
                    <a:pt x="386" y="12"/>
                  </a:lnTo>
                  <a:lnTo>
                    <a:pt x="368" y="9"/>
                  </a:lnTo>
                  <a:lnTo>
                    <a:pt x="350" y="7"/>
                  </a:lnTo>
                  <a:lnTo>
                    <a:pt x="331" y="5"/>
                  </a:lnTo>
                  <a:lnTo>
                    <a:pt x="313" y="3"/>
                  </a:lnTo>
                  <a:lnTo>
                    <a:pt x="295" y="1"/>
                  </a:lnTo>
                  <a:lnTo>
                    <a:pt x="275" y="1"/>
                  </a:lnTo>
                  <a:lnTo>
                    <a:pt x="257" y="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11" y="0"/>
                  </a:lnTo>
                  <a:lnTo>
                    <a:pt x="197" y="1"/>
                  </a:lnTo>
                  <a:lnTo>
                    <a:pt x="184" y="1"/>
                  </a:lnTo>
                  <a:lnTo>
                    <a:pt x="170" y="2"/>
                  </a:lnTo>
                  <a:lnTo>
                    <a:pt x="158" y="3"/>
                  </a:lnTo>
                  <a:lnTo>
                    <a:pt x="144" y="3"/>
                  </a:lnTo>
                  <a:lnTo>
                    <a:pt x="131" y="5"/>
                  </a:lnTo>
                  <a:lnTo>
                    <a:pt x="119" y="7"/>
                  </a:lnTo>
                  <a:lnTo>
                    <a:pt x="106" y="8"/>
                  </a:lnTo>
                  <a:lnTo>
                    <a:pt x="93" y="10"/>
                  </a:lnTo>
                  <a:lnTo>
                    <a:pt x="81" y="12"/>
                  </a:lnTo>
                  <a:lnTo>
                    <a:pt x="69" y="14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21"/>
                  </a:lnTo>
                  <a:lnTo>
                    <a:pt x="0" y="29"/>
                  </a:lnTo>
                  <a:lnTo>
                    <a:pt x="0" y="62"/>
                  </a:lnTo>
                  <a:lnTo>
                    <a:pt x="0" y="594"/>
                  </a:lnTo>
                  <a:lnTo>
                    <a:pt x="0" y="647"/>
                  </a:lnTo>
                  <a:lnTo>
                    <a:pt x="52" y="636"/>
                  </a:lnTo>
                  <a:lnTo>
                    <a:pt x="62" y="634"/>
                  </a:lnTo>
                  <a:lnTo>
                    <a:pt x="73" y="631"/>
                  </a:lnTo>
                  <a:lnTo>
                    <a:pt x="84" y="629"/>
                  </a:lnTo>
                  <a:lnTo>
                    <a:pt x="94" y="628"/>
                  </a:lnTo>
                  <a:lnTo>
                    <a:pt x="106" y="626"/>
                  </a:lnTo>
                  <a:lnTo>
                    <a:pt x="117" y="624"/>
                  </a:lnTo>
                  <a:lnTo>
                    <a:pt x="129" y="623"/>
                  </a:lnTo>
                  <a:lnTo>
                    <a:pt x="140" y="621"/>
                  </a:lnTo>
                  <a:lnTo>
                    <a:pt x="152" y="620"/>
                  </a:lnTo>
                  <a:lnTo>
                    <a:pt x="165" y="619"/>
                  </a:lnTo>
                  <a:lnTo>
                    <a:pt x="176" y="619"/>
                  </a:lnTo>
                  <a:lnTo>
                    <a:pt x="189" y="617"/>
                  </a:lnTo>
                  <a:lnTo>
                    <a:pt x="200" y="617"/>
                  </a:lnTo>
                  <a:lnTo>
                    <a:pt x="213" y="616"/>
                  </a:lnTo>
                  <a:lnTo>
                    <a:pt x="224" y="616"/>
                  </a:lnTo>
                  <a:lnTo>
                    <a:pt x="237" y="616"/>
                  </a:lnTo>
                  <a:lnTo>
                    <a:pt x="254" y="616"/>
                  </a:lnTo>
                  <a:lnTo>
                    <a:pt x="270" y="617"/>
                  </a:lnTo>
                  <a:lnTo>
                    <a:pt x="287" y="617"/>
                  </a:lnTo>
                  <a:lnTo>
                    <a:pt x="304" y="619"/>
                  </a:lnTo>
                  <a:lnTo>
                    <a:pt x="319" y="620"/>
                  </a:lnTo>
                  <a:lnTo>
                    <a:pt x="335" y="622"/>
                  </a:lnTo>
                  <a:lnTo>
                    <a:pt x="351" y="623"/>
                  </a:lnTo>
                  <a:lnTo>
                    <a:pt x="366" y="626"/>
                  </a:lnTo>
                  <a:lnTo>
                    <a:pt x="249" y="799"/>
                  </a:lnTo>
                  <a:lnTo>
                    <a:pt x="223" y="839"/>
                  </a:lnTo>
                  <a:lnTo>
                    <a:pt x="267" y="851"/>
                  </a:lnTo>
                  <a:lnTo>
                    <a:pt x="420" y="896"/>
                  </a:lnTo>
                  <a:lnTo>
                    <a:pt x="427" y="897"/>
                  </a:lnTo>
                  <a:lnTo>
                    <a:pt x="433" y="897"/>
                  </a:lnTo>
                  <a:lnTo>
                    <a:pt x="440" y="896"/>
                  </a:lnTo>
                  <a:lnTo>
                    <a:pt x="445" y="894"/>
                  </a:lnTo>
                  <a:lnTo>
                    <a:pt x="450" y="890"/>
                  </a:lnTo>
                  <a:lnTo>
                    <a:pt x="455" y="886"/>
                  </a:lnTo>
                  <a:lnTo>
                    <a:pt x="459" y="880"/>
                  </a:lnTo>
                  <a:lnTo>
                    <a:pt x="462" y="874"/>
                  </a:lnTo>
                  <a:lnTo>
                    <a:pt x="463" y="861"/>
                  </a:lnTo>
                  <a:lnTo>
                    <a:pt x="459" y="848"/>
                  </a:lnTo>
                  <a:lnTo>
                    <a:pt x="451" y="839"/>
                  </a:lnTo>
                  <a:lnTo>
                    <a:pt x="439" y="832"/>
                  </a:lnTo>
                  <a:lnTo>
                    <a:pt x="330" y="799"/>
                  </a:lnTo>
                  <a:lnTo>
                    <a:pt x="434" y="647"/>
                  </a:lnTo>
                  <a:lnTo>
                    <a:pt x="435" y="645"/>
                  </a:lnTo>
                  <a:lnTo>
                    <a:pt x="436" y="644"/>
                  </a:lnTo>
                  <a:lnTo>
                    <a:pt x="436" y="642"/>
                  </a:lnTo>
                  <a:lnTo>
                    <a:pt x="437" y="641"/>
                  </a:lnTo>
                  <a:lnTo>
                    <a:pt x="444" y="643"/>
                  </a:lnTo>
                  <a:lnTo>
                    <a:pt x="451" y="644"/>
                  </a:lnTo>
                  <a:lnTo>
                    <a:pt x="458" y="646"/>
                  </a:lnTo>
                  <a:lnTo>
                    <a:pt x="465" y="649"/>
                  </a:lnTo>
                  <a:lnTo>
                    <a:pt x="472" y="650"/>
                  </a:lnTo>
                  <a:lnTo>
                    <a:pt x="478" y="652"/>
                  </a:lnTo>
                  <a:lnTo>
                    <a:pt x="485" y="654"/>
                  </a:lnTo>
                  <a:lnTo>
                    <a:pt x="490" y="657"/>
                  </a:lnTo>
                  <a:lnTo>
                    <a:pt x="493" y="658"/>
                  </a:lnTo>
                  <a:lnTo>
                    <a:pt x="495" y="658"/>
                  </a:lnTo>
                  <a:lnTo>
                    <a:pt x="502" y="660"/>
                  </a:lnTo>
                  <a:lnTo>
                    <a:pt x="510" y="661"/>
                  </a:lnTo>
                  <a:lnTo>
                    <a:pt x="518" y="664"/>
                  </a:lnTo>
                  <a:lnTo>
                    <a:pt x="525" y="665"/>
                  </a:lnTo>
                  <a:lnTo>
                    <a:pt x="533" y="667"/>
                  </a:lnTo>
                  <a:lnTo>
                    <a:pt x="541" y="668"/>
                  </a:lnTo>
                  <a:lnTo>
                    <a:pt x="549" y="670"/>
                  </a:lnTo>
                  <a:lnTo>
                    <a:pt x="557" y="672"/>
                  </a:lnTo>
                  <a:lnTo>
                    <a:pt x="623" y="859"/>
                  </a:lnTo>
                  <a:lnTo>
                    <a:pt x="635" y="896"/>
                  </a:lnTo>
                  <a:lnTo>
                    <a:pt x="670" y="879"/>
                  </a:lnTo>
                  <a:lnTo>
                    <a:pt x="811" y="805"/>
                  </a:lnTo>
                  <a:lnTo>
                    <a:pt x="822" y="797"/>
                  </a:lnTo>
                  <a:lnTo>
                    <a:pt x="828" y="786"/>
                  </a:lnTo>
                  <a:lnTo>
                    <a:pt x="829" y="773"/>
                  </a:lnTo>
                  <a:lnTo>
                    <a:pt x="825" y="759"/>
                  </a:lnTo>
                  <a:lnTo>
                    <a:pt x="822" y="753"/>
                  </a:lnTo>
                  <a:lnTo>
                    <a:pt x="817" y="749"/>
                  </a:lnTo>
                  <a:lnTo>
                    <a:pt x="811" y="745"/>
                  </a:lnTo>
                  <a:lnTo>
                    <a:pt x="806" y="743"/>
                  </a:lnTo>
                  <a:lnTo>
                    <a:pt x="800" y="742"/>
                  </a:lnTo>
                  <a:lnTo>
                    <a:pt x="793" y="742"/>
                  </a:lnTo>
                  <a:lnTo>
                    <a:pt x="786" y="743"/>
                  </a:lnTo>
                  <a:lnTo>
                    <a:pt x="780" y="745"/>
                  </a:lnTo>
                  <a:lnTo>
                    <a:pt x="673" y="801"/>
                  </a:lnTo>
                  <a:lnTo>
                    <a:pt x="632" y="681"/>
                  </a:lnTo>
                  <a:lnTo>
                    <a:pt x="642" y="682"/>
                  </a:lnTo>
                  <a:lnTo>
                    <a:pt x="654" y="683"/>
                  </a:lnTo>
                  <a:lnTo>
                    <a:pt x="664" y="684"/>
                  </a:lnTo>
                  <a:lnTo>
                    <a:pt x="676" y="684"/>
                  </a:lnTo>
                  <a:lnTo>
                    <a:pt x="686" y="685"/>
                  </a:lnTo>
                  <a:lnTo>
                    <a:pt x="696" y="685"/>
                  </a:lnTo>
                  <a:lnTo>
                    <a:pt x="708" y="685"/>
                  </a:lnTo>
                  <a:lnTo>
                    <a:pt x="718" y="685"/>
                  </a:lnTo>
                  <a:lnTo>
                    <a:pt x="737" y="685"/>
                  </a:lnTo>
                  <a:lnTo>
                    <a:pt x="755" y="684"/>
                  </a:lnTo>
                  <a:lnTo>
                    <a:pt x="773" y="684"/>
                  </a:lnTo>
                  <a:lnTo>
                    <a:pt x="792" y="683"/>
                  </a:lnTo>
                  <a:lnTo>
                    <a:pt x="809" y="682"/>
                  </a:lnTo>
                  <a:lnTo>
                    <a:pt x="828" y="680"/>
                  </a:lnTo>
                  <a:lnTo>
                    <a:pt x="845" y="677"/>
                  </a:lnTo>
                  <a:lnTo>
                    <a:pt x="862" y="675"/>
                  </a:lnTo>
                  <a:lnTo>
                    <a:pt x="878" y="673"/>
                  </a:lnTo>
                  <a:lnTo>
                    <a:pt x="895" y="669"/>
                  </a:lnTo>
                  <a:lnTo>
                    <a:pt x="912" y="667"/>
                  </a:lnTo>
                  <a:lnTo>
                    <a:pt x="927" y="664"/>
                  </a:lnTo>
                  <a:lnTo>
                    <a:pt x="943" y="659"/>
                  </a:lnTo>
                  <a:lnTo>
                    <a:pt x="956" y="655"/>
                  </a:lnTo>
                  <a:lnTo>
                    <a:pt x="971" y="651"/>
                  </a:lnTo>
                  <a:lnTo>
                    <a:pt x="985" y="646"/>
                  </a:lnTo>
                  <a:lnTo>
                    <a:pt x="1014" y="637"/>
                  </a:lnTo>
                  <a:lnTo>
                    <a:pt x="1014" y="607"/>
                  </a:lnTo>
                  <a:lnTo>
                    <a:pt x="1014" y="75"/>
                  </a:lnTo>
                  <a:lnTo>
                    <a:pt x="1014" y="16"/>
                  </a:lnTo>
                  <a:lnTo>
                    <a:pt x="9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78240" y="6143760"/>
              <a:ext cx="324000" cy="32220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204" y="406"/>
                  </a:moveTo>
                  <a:lnTo>
                    <a:pt x="184" y="405"/>
                  </a:lnTo>
                  <a:lnTo>
                    <a:pt x="163" y="403"/>
                  </a:lnTo>
                  <a:lnTo>
                    <a:pt x="145" y="398"/>
                  </a:lnTo>
                  <a:lnTo>
                    <a:pt x="127" y="391"/>
                  </a:lnTo>
                  <a:lnTo>
                    <a:pt x="108" y="382"/>
                  </a:lnTo>
                  <a:lnTo>
                    <a:pt x="91" y="372"/>
                  </a:lnTo>
                  <a:lnTo>
                    <a:pt x="75" y="360"/>
                  </a:lnTo>
                  <a:lnTo>
                    <a:pt x="60" y="346"/>
                  </a:lnTo>
                  <a:lnTo>
                    <a:pt x="46" y="331"/>
                  </a:lnTo>
                  <a:lnTo>
                    <a:pt x="34" y="315"/>
                  </a:lnTo>
                  <a:lnTo>
                    <a:pt x="24" y="299"/>
                  </a:lnTo>
                  <a:lnTo>
                    <a:pt x="16" y="281"/>
                  </a:lnTo>
                  <a:lnTo>
                    <a:pt x="9" y="262"/>
                  </a:lnTo>
                  <a:lnTo>
                    <a:pt x="3" y="244"/>
                  </a:lnTo>
                  <a:lnTo>
                    <a:pt x="1" y="223"/>
                  </a:lnTo>
                  <a:lnTo>
                    <a:pt x="0" y="203"/>
                  </a:lnTo>
                  <a:lnTo>
                    <a:pt x="1" y="183"/>
                  </a:lnTo>
                  <a:lnTo>
                    <a:pt x="3" y="163"/>
                  </a:lnTo>
                  <a:lnTo>
                    <a:pt x="9" y="144"/>
                  </a:lnTo>
                  <a:lnTo>
                    <a:pt x="16" y="125"/>
                  </a:lnTo>
                  <a:lnTo>
                    <a:pt x="24" y="108"/>
                  </a:lnTo>
                  <a:lnTo>
                    <a:pt x="34" y="91"/>
                  </a:lnTo>
                  <a:lnTo>
                    <a:pt x="46" y="74"/>
                  </a:lnTo>
                  <a:lnTo>
                    <a:pt x="60" y="59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7" y="14"/>
                  </a:lnTo>
                  <a:lnTo>
                    <a:pt x="145" y="8"/>
                  </a:lnTo>
                  <a:lnTo>
                    <a:pt x="163" y="3"/>
                  </a:lnTo>
                  <a:lnTo>
                    <a:pt x="184" y="1"/>
                  </a:lnTo>
                  <a:lnTo>
                    <a:pt x="204" y="0"/>
                  </a:lnTo>
                  <a:lnTo>
                    <a:pt x="224" y="1"/>
                  </a:lnTo>
                  <a:lnTo>
                    <a:pt x="244" y="3"/>
                  </a:lnTo>
                  <a:lnTo>
                    <a:pt x="264" y="8"/>
                  </a:lnTo>
                  <a:lnTo>
                    <a:pt x="282" y="14"/>
                  </a:lnTo>
                  <a:lnTo>
                    <a:pt x="300" y="24"/>
                  </a:lnTo>
                  <a:lnTo>
                    <a:pt x="316" y="34"/>
                  </a:lnTo>
                  <a:lnTo>
                    <a:pt x="333" y="46"/>
                  </a:lnTo>
                  <a:lnTo>
                    <a:pt x="348" y="59"/>
                  </a:lnTo>
                  <a:lnTo>
                    <a:pt x="361" y="74"/>
                  </a:lnTo>
                  <a:lnTo>
                    <a:pt x="373" y="91"/>
                  </a:lnTo>
                  <a:lnTo>
                    <a:pt x="383" y="108"/>
                  </a:lnTo>
                  <a:lnTo>
                    <a:pt x="392" y="125"/>
                  </a:lnTo>
                  <a:lnTo>
                    <a:pt x="399" y="144"/>
                  </a:lnTo>
                  <a:lnTo>
                    <a:pt x="404" y="163"/>
                  </a:lnTo>
                  <a:lnTo>
                    <a:pt x="406" y="183"/>
                  </a:lnTo>
                  <a:lnTo>
                    <a:pt x="407" y="203"/>
                  </a:lnTo>
                  <a:lnTo>
                    <a:pt x="406" y="224"/>
                  </a:lnTo>
                  <a:lnTo>
                    <a:pt x="403" y="244"/>
                  </a:lnTo>
                  <a:lnTo>
                    <a:pt x="398" y="263"/>
                  </a:lnTo>
                  <a:lnTo>
                    <a:pt x="391" y="282"/>
                  </a:lnTo>
                  <a:lnTo>
                    <a:pt x="383" y="300"/>
                  </a:lnTo>
                  <a:lnTo>
                    <a:pt x="373" y="316"/>
                  </a:lnTo>
                  <a:lnTo>
                    <a:pt x="361" y="332"/>
                  </a:lnTo>
                  <a:lnTo>
                    <a:pt x="348" y="346"/>
                  </a:lnTo>
                  <a:lnTo>
                    <a:pt x="334" y="360"/>
                  </a:lnTo>
                  <a:lnTo>
                    <a:pt x="318" y="372"/>
                  </a:lnTo>
                  <a:lnTo>
                    <a:pt x="300" y="382"/>
                  </a:lnTo>
                  <a:lnTo>
                    <a:pt x="283" y="390"/>
                  </a:lnTo>
                  <a:lnTo>
                    <a:pt x="265" y="397"/>
                  </a:lnTo>
                  <a:lnTo>
                    <a:pt x="245" y="402"/>
                  </a:lnTo>
                  <a:lnTo>
                    <a:pt x="224" y="405"/>
                  </a:lnTo>
                  <a:lnTo>
                    <a:pt x="204" y="4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91040" y="6088320"/>
              <a:ext cx="249120" cy="361800"/>
            </a:xfrm>
            <a:custGeom>
              <a:avLst/>
              <a:gdLst/>
              <a:ahLst/>
              <a:rect l="l" t="t" r="r" b="b"/>
              <a:pathLst>
                <a:path w="314" h="458">
                  <a:moveTo>
                    <a:pt x="0" y="458"/>
                  </a:moveTo>
                  <a:lnTo>
                    <a:pt x="0" y="13"/>
                  </a:lnTo>
                  <a:lnTo>
                    <a:pt x="18" y="9"/>
                  </a:lnTo>
                  <a:lnTo>
                    <a:pt x="37" y="7"/>
                  </a:lnTo>
                  <a:lnTo>
                    <a:pt x="55" y="5"/>
                  </a:lnTo>
                  <a:lnTo>
                    <a:pt x="75" y="3"/>
                  </a:lnTo>
                  <a:lnTo>
                    <a:pt x="94" y="1"/>
                  </a:lnTo>
                  <a:lnTo>
                    <a:pt x="114" y="1"/>
                  </a:lnTo>
                  <a:lnTo>
                    <a:pt x="134" y="0"/>
                  </a:lnTo>
                  <a:lnTo>
                    <a:pt x="153" y="0"/>
                  </a:lnTo>
                  <a:lnTo>
                    <a:pt x="174" y="0"/>
                  </a:lnTo>
                  <a:lnTo>
                    <a:pt x="196" y="1"/>
                  </a:lnTo>
                  <a:lnTo>
                    <a:pt x="215" y="3"/>
                  </a:lnTo>
                  <a:lnTo>
                    <a:pt x="236" y="4"/>
                  </a:lnTo>
                  <a:lnTo>
                    <a:pt x="257" y="6"/>
                  </a:lnTo>
                  <a:lnTo>
                    <a:pt x="276" y="8"/>
                  </a:lnTo>
                  <a:lnTo>
                    <a:pt x="296" y="12"/>
                  </a:lnTo>
                  <a:lnTo>
                    <a:pt x="314" y="15"/>
                  </a:lnTo>
                  <a:lnTo>
                    <a:pt x="280" y="35"/>
                  </a:lnTo>
                  <a:lnTo>
                    <a:pt x="249" y="59"/>
                  </a:lnTo>
                  <a:lnTo>
                    <a:pt x="221" y="88"/>
                  </a:lnTo>
                  <a:lnTo>
                    <a:pt x="197" y="119"/>
                  </a:lnTo>
                  <a:lnTo>
                    <a:pt x="178" y="155"/>
                  </a:lnTo>
                  <a:lnTo>
                    <a:pt x="163" y="193"/>
                  </a:lnTo>
                  <a:lnTo>
                    <a:pt x="155" y="233"/>
                  </a:lnTo>
                  <a:lnTo>
                    <a:pt x="152" y="274"/>
                  </a:lnTo>
                  <a:lnTo>
                    <a:pt x="153" y="299"/>
                  </a:lnTo>
                  <a:lnTo>
                    <a:pt x="155" y="322"/>
                  </a:lnTo>
                  <a:lnTo>
                    <a:pt x="160" y="345"/>
                  </a:lnTo>
                  <a:lnTo>
                    <a:pt x="167" y="367"/>
                  </a:lnTo>
                  <a:lnTo>
                    <a:pt x="176" y="388"/>
                  </a:lnTo>
                  <a:lnTo>
                    <a:pt x="186" y="409"/>
                  </a:lnTo>
                  <a:lnTo>
                    <a:pt x="198" y="429"/>
                  </a:lnTo>
                  <a:lnTo>
                    <a:pt x="212" y="448"/>
                  </a:lnTo>
                  <a:lnTo>
                    <a:pt x="205" y="448"/>
                  </a:lnTo>
                  <a:lnTo>
                    <a:pt x="197" y="447"/>
                  </a:lnTo>
                  <a:lnTo>
                    <a:pt x="190" y="447"/>
                  </a:lnTo>
                  <a:lnTo>
                    <a:pt x="183" y="447"/>
                  </a:lnTo>
                  <a:lnTo>
                    <a:pt x="175" y="447"/>
                  </a:lnTo>
                  <a:lnTo>
                    <a:pt x="168" y="447"/>
                  </a:lnTo>
                  <a:lnTo>
                    <a:pt x="160" y="447"/>
                  </a:lnTo>
                  <a:lnTo>
                    <a:pt x="153" y="447"/>
                  </a:lnTo>
                  <a:lnTo>
                    <a:pt x="134" y="447"/>
                  </a:lnTo>
                  <a:lnTo>
                    <a:pt x="114" y="448"/>
                  </a:lnTo>
                  <a:lnTo>
                    <a:pt x="94" y="448"/>
                  </a:lnTo>
                  <a:lnTo>
                    <a:pt x="75" y="450"/>
                  </a:lnTo>
                  <a:lnTo>
                    <a:pt x="55" y="452"/>
                  </a:lnTo>
                  <a:lnTo>
                    <a:pt x="37" y="453"/>
                  </a:lnTo>
                  <a:lnTo>
                    <a:pt x="18" y="455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5520" y="6124680"/>
              <a:ext cx="196920" cy="371520"/>
            </a:xfrm>
            <a:custGeom>
              <a:avLst/>
              <a:gdLst/>
              <a:ahLst/>
              <a:rect l="l" t="t" r="r" b="b"/>
              <a:pathLst>
                <a:path w="247" h="469">
                  <a:moveTo>
                    <a:pt x="0" y="468"/>
                  </a:moveTo>
                  <a:lnTo>
                    <a:pt x="5" y="465"/>
                  </a:lnTo>
                  <a:lnTo>
                    <a:pt x="11" y="460"/>
                  </a:lnTo>
                  <a:lnTo>
                    <a:pt x="17" y="455"/>
                  </a:lnTo>
                  <a:lnTo>
                    <a:pt x="23" y="451"/>
                  </a:lnTo>
                  <a:lnTo>
                    <a:pt x="28" y="446"/>
                  </a:lnTo>
                  <a:lnTo>
                    <a:pt x="34" y="442"/>
                  </a:lnTo>
                  <a:lnTo>
                    <a:pt x="39" y="436"/>
                  </a:lnTo>
                  <a:lnTo>
                    <a:pt x="44" y="431"/>
                  </a:lnTo>
                  <a:lnTo>
                    <a:pt x="64" y="410"/>
                  </a:lnTo>
                  <a:lnTo>
                    <a:pt x="81" y="387"/>
                  </a:lnTo>
                  <a:lnTo>
                    <a:pt x="96" y="363"/>
                  </a:lnTo>
                  <a:lnTo>
                    <a:pt x="108" y="338"/>
                  </a:lnTo>
                  <a:lnTo>
                    <a:pt x="117" y="313"/>
                  </a:lnTo>
                  <a:lnTo>
                    <a:pt x="124" y="285"/>
                  </a:lnTo>
                  <a:lnTo>
                    <a:pt x="128" y="257"/>
                  </a:lnTo>
                  <a:lnTo>
                    <a:pt x="130" y="228"/>
                  </a:lnTo>
                  <a:lnTo>
                    <a:pt x="128" y="200"/>
                  </a:lnTo>
                  <a:lnTo>
                    <a:pt x="124" y="172"/>
                  </a:lnTo>
                  <a:lnTo>
                    <a:pt x="117" y="144"/>
                  </a:lnTo>
                  <a:lnTo>
                    <a:pt x="108" y="118"/>
                  </a:lnTo>
                  <a:lnTo>
                    <a:pt x="96" y="92"/>
                  </a:lnTo>
                  <a:lnTo>
                    <a:pt x="81" y="68"/>
                  </a:lnTo>
                  <a:lnTo>
                    <a:pt x="64" y="45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55" y="22"/>
                  </a:lnTo>
                  <a:lnTo>
                    <a:pt x="67" y="22"/>
                  </a:lnTo>
                  <a:lnTo>
                    <a:pt x="80" y="22"/>
                  </a:lnTo>
                  <a:lnTo>
                    <a:pt x="92" y="21"/>
                  </a:lnTo>
                  <a:lnTo>
                    <a:pt x="104" y="21"/>
                  </a:lnTo>
                  <a:lnTo>
                    <a:pt x="117" y="20"/>
                  </a:lnTo>
                  <a:lnTo>
                    <a:pt x="128" y="19"/>
                  </a:lnTo>
                  <a:lnTo>
                    <a:pt x="141" y="18"/>
                  </a:lnTo>
                  <a:lnTo>
                    <a:pt x="141" y="18"/>
                  </a:lnTo>
                  <a:lnTo>
                    <a:pt x="155" y="16"/>
                  </a:lnTo>
                  <a:lnTo>
                    <a:pt x="169" y="14"/>
                  </a:lnTo>
                  <a:lnTo>
                    <a:pt x="183" y="13"/>
                  </a:lnTo>
                  <a:lnTo>
                    <a:pt x="195" y="11"/>
                  </a:lnTo>
                  <a:lnTo>
                    <a:pt x="209" y="8"/>
                  </a:lnTo>
                  <a:lnTo>
                    <a:pt x="222" y="5"/>
                  </a:lnTo>
                  <a:lnTo>
                    <a:pt x="234" y="3"/>
                  </a:lnTo>
                  <a:lnTo>
                    <a:pt x="247" y="0"/>
                  </a:lnTo>
                  <a:lnTo>
                    <a:pt x="247" y="444"/>
                  </a:lnTo>
                  <a:lnTo>
                    <a:pt x="235" y="447"/>
                  </a:lnTo>
                  <a:lnTo>
                    <a:pt x="224" y="450"/>
                  </a:lnTo>
                  <a:lnTo>
                    <a:pt x="211" y="453"/>
                  </a:lnTo>
                  <a:lnTo>
                    <a:pt x="199" y="455"/>
                  </a:lnTo>
                  <a:lnTo>
                    <a:pt x="186" y="458"/>
                  </a:lnTo>
                  <a:lnTo>
                    <a:pt x="173" y="460"/>
                  </a:lnTo>
                  <a:lnTo>
                    <a:pt x="161" y="461"/>
                  </a:lnTo>
                  <a:lnTo>
                    <a:pt x="147" y="463"/>
                  </a:lnTo>
                  <a:lnTo>
                    <a:pt x="134" y="465"/>
                  </a:lnTo>
                  <a:lnTo>
                    <a:pt x="120" y="466"/>
                  </a:lnTo>
                  <a:lnTo>
                    <a:pt x="107" y="467"/>
                  </a:lnTo>
                  <a:lnTo>
                    <a:pt x="93" y="468"/>
                  </a:lnTo>
                  <a:lnTo>
                    <a:pt x="78" y="468"/>
                  </a:lnTo>
                  <a:lnTo>
                    <a:pt x="64" y="469"/>
                  </a:lnTo>
                  <a:lnTo>
                    <a:pt x="50" y="469"/>
                  </a:lnTo>
                  <a:lnTo>
                    <a:pt x="35" y="469"/>
                  </a:lnTo>
                  <a:lnTo>
                    <a:pt x="31" y="469"/>
                  </a:lnTo>
                  <a:lnTo>
                    <a:pt x="26" y="469"/>
                  </a:lnTo>
                  <a:lnTo>
                    <a:pt x="21" y="469"/>
                  </a:lnTo>
                  <a:lnTo>
                    <a:pt x="17" y="469"/>
                  </a:lnTo>
                  <a:lnTo>
                    <a:pt x="12" y="469"/>
                  </a:lnTo>
                  <a:lnTo>
                    <a:pt x="9" y="469"/>
                  </a:lnTo>
                  <a:lnTo>
                    <a:pt x="4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56000" y="6185160"/>
              <a:ext cx="160200" cy="233280"/>
            </a:xfrm>
            <a:custGeom>
              <a:avLst/>
              <a:gdLst/>
              <a:ahLst/>
              <a:rect l="l" t="t" r="r" b="b"/>
              <a:pathLst>
                <a:path w="201" h="293">
                  <a:moveTo>
                    <a:pt x="89" y="165"/>
                  </a:moveTo>
                  <a:lnTo>
                    <a:pt x="69" y="160"/>
                  </a:lnTo>
                  <a:lnTo>
                    <a:pt x="52" y="153"/>
                  </a:lnTo>
                  <a:lnTo>
                    <a:pt x="37" y="146"/>
                  </a:lnTo>
                  <a:lnTo>
                    <a:pt x="24" y="138"/>
                  </a:lnTo>
                  <a:lnTo>
                    <a:pt x="15" y="129"/>
                  </a:lnTo>
                  <a:lnTo>
                    <a:pt x="8" y="118"/>
                  </a:lnTo>
                  <a:lnTo>
                    <a:pt x="3" y="107"/>
                  </a:lnTo>
                  <a:lnTo>
                    <a:pt x="2" y="92"/>
                  </a:lnTo>
                  <a:lnTo>
                    <a:pt x="5" y="74"/>
                  </a:lnTo>
                  <a:lnTo>
                    <a:pt x="10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4" y="28"/>
                  </a:lnTo>
                  <a:lnTo>
                    <a:pt x="59" y="23"/>
                  </a:lnTo>
                  <a:lnTo>
                    <a:pt x="74" y="19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6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2" y="6"/>
                  </a:lnTo>
                  <a:lnTo>
                    <a:pt x="113" y="13"/>
                  </a:lnTo>
                  <a:lnTo>
                    <a:pt x="113" y="18"/>
                  </a:lnTo>
                  <a:lnTo>
                    <a:pt x="123" y="19"/>
                  </a:lnTo>
                  <a:lnTo>
                    <a:pt x="136" y="21"/>
                  </a:lnTo>
                  <a:lnTo>
                    <a:pt x="150" y="25"/>
                  </a:lnTo>
                  <a:lnTo>
                    <a:pt x="163" y="31"/>
                  </a:lnTo>
                  <a:lnTo>
                    <a:pt x="176" y="38"/>
                  </a:lnTo>
                  <a:lnTo>
                    <a:pt x="186" y="47"/>
                  </a:lnTo>
                  <a:lnTo>
                    <a:pt x="193" y="57"/>
                  </a:lnTo>
                  <a:lnTo>
                    <a:pt x="196" y="70"/>
                  </a:lnTo>
                  <a:lnTo>
                    <a:pt x="193" y="79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67" y="95"/>
                  </a:lnTo>
                  <a:lnTo>
                    <a:pt x="161" y="94"/>
                  </a:lnTo>
                  <a:lnTo>
                    <a:pt x="155" y="91"/>
                  </a:lnTo>
                  <a:lnTo>
                    <a:pt x="150" y="87"/>
                  </a:lnTo>
                  <a:lnTo>
                    <a:pt x="145" y="81"/>
                  </a:lnTo>
                  <a:lnTo>
                    <a:pt x="138" y="77"/>
                  </a:lnTo>
                  <a:lnTo>
                    <a:pt x="131" y="71"/>
                  </a:lnTo>
                  <a:lnTo>
                    <a:pt x="123" y="67"/>
                  </a:lnTo>
                  <a:lnTo>
                    <a:pt x="113" y="64"/>
                  </a:lnTo>
                  <a:lnTo>
                    <a:pt x="113" y="110"/>
                  </a:lnTo>
                  <a:lnTo>
                    <a:pt x="133" y="116"/>
                  </a:lnTo>
                  <a:lnTo>
                    <a:pt x="152" y="123"/>
                  </a:lnTo>
                  <a:lnTo>
                    <a:pt x="167" y="131"/>
                  </a:lnTo>
                  <a:lnTo>
                    <a:pt x="180" y="139"/>
                  </a:lnTo>
                  <a:lnTo>
                    <a:pt x="189" y="149"/>
                  </a:lnTo>
                  <a:lnTo>
                    <a:pt x="196" y="161"/>
                  </a:lnTo>
                  <a:lnTo>
                    <a:pt x="200" y="175"/>
                  </a:lnTo>
                  <a:lnTo>
                    <a:pt x="201" y="190"/>
                  </a:lnTo>
                  <a:lnTo>
                    <a:pt x="199" y="207"/>
                  </a:lnTo>
                  <a:lnTo>
                    <a:pt x="193" y="221"/>
                  </a:lnTo>
                  <a:lnTo>
                    <a:pt x="185" y="233"/>
                  </a:lnTo>
                  <a:lnTo>
                    <a:pt x="174" y="243"/>
                  </a:lnTo>
                  <a:lnTo>
                    <a:pt x="161" y="251"/>
                  </a:lnTo>
                  <a:lnTo>
                    <a:pt x="145" y="256"/>
                  </a:lnTo>
                  <a:lnTo>
                    <a:pt x="130" y="260"/>
                  </a:lnTo>
                  <a:lnTo>
                    <a:pt x="113" y="262"/>
                  </a:lnTo>
                  <a:lnTo>
                    <a:pt x="113" y="279"/>
                  </a:lnTo>
                  <a:lnTo>
                    <a:pt x="112" y="286"/>
                  </a:lnTo>
                  <a:lnTo>
                    <a:pt x="109" y="290"/>
                  </a:lnTo>
                  <a:lnTo>
                    <a:pt x="106" y="292"/>
                  </a:lnTo>
                  <a:lnTo>
                    <a:pt x="101" y="293"/>
                  </a:lnTo>
                  <a:lnTo>
                    <a:pt x="95" y="292"/>
                  </a:lnTo>
                  <a:lnTo>
                    <a:pt x="92" y="290"/>
                  </a:lnTo>
                  <a:lnTo>
                    <a:pt x="90" y="286"/>
                  </a:lnTo>
                  <a:lnTo>
                    <a:pt x="89" y="279"/>
                  </a:lnTo>
                  <a:lnTo>
                    <a:pt x="89" y="262"/>
                  </a:lnTo>
                  <a:lnTo>
                    <a:pt x="69" y="261"/>
                  </a:lnTo>
                  <a:lnTo>
                    <a:pt x="51" y="256"/>
                  </a:lnTo>
                  <a:lnTo>
                    <a:pt x="36" y="251"/>
                  </a:lnTo>
                  <a:lnTo>
                    <a:pt x="23" y="243"/>
                  </a:lnTo>
                  <a:lnTo>
                    <a:pt x="13" y="233"/>
                  </a:lnTo>
                  <a:lnTo>
                    <a:pt x="6" y="223"/>
                  </a:lnTo>
                  <a:lnTo>
                    <a:pt x="1" y="214"/>
                  </a:lnTo>
                  <a:lnTo>
                    <a:pt x="0" y="203"/>
                  </a:lnTo>
                  <a:lnTo>
                    <a:pt x="2" y="192"/>
                  </a:lnTo>
                  <a:lnTo>
                    <a:pt x="8" y="184"/>
                  </a:lnTo>
                  <a:lnTo>
                    <a:pt x="16" y="178"/>
                  </a:lnTo>
                  <a:lnTo>
                    <a:pt x="28" y="176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48" y="187"/>
                  </a:lnTo>
                  <a:lnTo>
                    <a:pt x="54" y="194"/>
                  </a:lnTo>
                  <a:lnTo>
                    <a:pt x="60" y="201"/>
                  </a:lnTo>
                  <a:lnTo>
                    <a:pt x="68" y="208"/>
                  </a:lnTo>
                  <a:lnTo>
                    <a:pt x="77" y="214"/>
                  </a:lnTo>
                  <a:lnTo>
                    <a:pt x="89" y="217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3520" y="6235920"/>
              <a:ext cx="24120" cy="33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lnTo>
                    <a:pt x="18" y="2"/>
                  </a:lnTo>
                  <a:lnTo>
                    <a:pt x="9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9" y="34"/>
                  </a:lnTo>
                  <a:lnTo>
                    <a:pt x="18" y="39"/>
                  </a:lnTo>
                  <a:lnTo>
                    <a:pt x="29" y="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6360" y="6321600"/>
              <a:ext cx="22320" cy="381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47"/>
                  </a:moveTo>
                  <a:lnTo>
                    <a:pt x="11" y="45"/>
                  </a:lnTo>
                  <a:lnTo>
                    <a:pt x="20" y="42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6" y="15"/>
                  </a:lnTo>
                  <a:lnTo>
                    <a:pt x="19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recurring set of accounting procedures carried out during each fiscal peri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79840" y="493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54800" y="4916520"/>
            <a:ext cx="52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accounting cy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usiness that buys goods and resells them at a higher price for a prof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00480" y="4927680"/>
            <a:ext cx="62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Merchandising busines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journal is known as this type of book because each balance entry is recorded there fir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4720" y="4950000"/>
            <a:ext cx="60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book of original entr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system of dealing with financial information that provides information for decision mak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5640" y="441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9840" y="6031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26280" y="491508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ccoun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5960" y="19350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= L + O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000" y="4916520"/>
            <a:ext cx="80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fundamental accounting equ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athering information about the daily goings on of the busine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00240" y="4950000"/>
            <a:ext cx="68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first activity in accoun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86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examination and testing of the books, records, and procedures of a busine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20040" y="492768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uditi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What is accounting? </a:t>
            </a:r>
            <a:br>
              <a:rPr sz="4400"/>
            </a:b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079600" y="379872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15960" y="23814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elling the assets of a company for cas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880" y="48942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liquid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5960" y="239220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ada’s most-read news magazi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52640" y="498312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Maclean’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Canadian stock exchange that lists the most compan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6440" y="4925880"/>
            <a:ext cx="65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Toronto Stock Exchang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92280" y="457200"/>
            <a:ext cx="7759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howcard Gothic"/>
              </a:rPr>
              <a:t>Categories</a:t>
            </a:r>
            <a:r>
              <a:rPr b="1" lang="en-US" sz="4400" spc="-1" strike="noStrike" u="sng">
                <a:solidFill>
                  <a:srgbClr val="60371c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1468440"/>
          <a:ext cx="8686800" cy="4424400"/>
        </p:xfrm>
        <a:graphic>
          <a:graphicData uri="http://schemas.openxmlformats.org/drawingml/2006/table">
            <a:tbl>
              <a:tblPr/>
              <a:tblGrid>
                <a:gridCol w="1695600"/>
                <a:gridCol w="1717560"/>
                <a:gridCol w="1967040"/>
                <a:gridCol w="1739880"/>
                <a:gridCol w="1566720"/>
              </a:tblGrid>
              <a:tr h="157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Mind the GAAP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1-2-3 Account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What is accounting?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O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Canada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Showcard Gothic"/>
                        </a:rPr>
                        <a:t>Source Documen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77160" y="3144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5680" y="4871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2960" y="37195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3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9400" y="4282920"/>
            <a:ext cx="54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4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1200" y="4863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5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9200" y="543708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6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1720" y="31370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96160" y="3716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12360" y="4233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9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5400" y="5438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0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0920" y="31417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49080" y="37227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4680" y="42321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3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48000" y="4863960"/>
            <a:ext cx="7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4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24880" y="54356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5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47720" y="3138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28640" y="3718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28640" y="4229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31880" y="48531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20640" y="54291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0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57440" y="31370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2800" y="3718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6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09560" y="4229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2" action="ppaction://hlinksldjump"/>
              </a:rPr>
              <a:t>6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89040" y="4869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17400" y="5438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9900"/>
                </a:solidFill>
                <a:uFillTx/>
                <a:latin typeface="Times New Roman"/>
                <a:hlinkClick r:id="rId24" action="ppaction://hlinksldjump"/>
              </a:rPr>
              <a:t>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>
            <a:hlinkClick r:id="rId25" action="ppaction://hlinksldjump"/>
          </p:cNvPr>
          <p:cNvSpPr/>
          <p:nvPr/>
        </p:nvSpPr>
        <p:spPr>
          <a:xfrm>
            <a:off x="2343240" y="6164280"/>
            <a:ext cx="4457520" cy="520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Showcard Gothic"/>
              </a:rPr>
              <a:t>FINAL JEOPAR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934 0.03167 E">
                                      <p:cBhvr>
                                        <p:cTn id="15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07 -0.07815 E">
                                      <p:cBhvr>
                                        <p:cTn id="16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5" dur="123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66" dur="123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68" dur="123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646 -0.13318 E">
                                      <p:cBhvr>
                                        <p:cTn id="17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80" dur="123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1" dur="123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3" dur="123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68 -0.19445 E">
                                      <p:cBhvr>
                                        <p:cTn id="19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5" dur="61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96" dur="615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7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8" dur="615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9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2312E-006 L -0.2191 0.13318 E">
                                      <p:cBhvr>
                                        <p:cTn id="20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0" dur="123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1" dur="123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3" dur="123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77 0.00208 E">
                                      <p:cBhvr>
                                        <p:cTn id="220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5" dur="123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6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8" dur="123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643 0.04231 E">
                                      <p:cBhvr>
                                        <p:cTn id="235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0" dur="123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1" dur="123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3" dur="123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226 0.04439 E">
                                      <p:cBhvr>
                                        <p:cTn id="25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5" dur="123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6" dur="123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8" dur="123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514 -0.03168 E">
                                      <p:cBhvr>
                                        <p:cTn id="265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0" dur="123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1" dur="123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3" dur="123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736 -0.09943 E">
                                      <p:cBhvr>
                                        <p:cTn id="280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5" dur="123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6" dur="123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8" dur="123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621 -0.28324 E">
                                      <p:cBhvr>
                                        <p:cTn id="295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0" dur="123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1" dur="123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3" dur="123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201 -0.15838 E">
                                      <p:cBhvr>
                                        <p:cTn id="31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5" dur="123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6" dur="123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8" dur="123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045 -0.18173 E">
                                      <p:cBhvr>
                                        <p:cTn id="325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30" dur="123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31" dur="123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33" dur="123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264 0.03375 E">
                                      <p:cBhvr>
                                        <p:cTn id="340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45" dur="123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46" dur="123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48" dur="123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844 -0.07838 E">
                                      <p:cBhvr>
                                        <p:cTn id="355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60" dur="123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61" dur="123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6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63" dur="123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646 -0.22405 E">
                                      <p:cBhvr>
                                        <p:cTn id="370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5" dur="123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76" dur="123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78" dur="123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77 0.05087 E">
                                      <p:cBhvr>
                                        <p:cTn id="385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0" dur="123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1" dur="123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93" dur="123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445 -0.05711 E">
                                      <p:cBhvr>
                                        <p:cTn id="400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05" dur="123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6" dur="123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08" dur="123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0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-0.01873 L -0.22778 -0.09272 E">
                                      <p:cBhvr>
                                        <p:cTn id="415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20" dur="123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21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3" dur="123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9 -0.01456 L -0.1842 -0.17318 E">
                                      <p:cBhvr>
                                        <p:cTn id="43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35" dur="123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36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38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-0.05273 L -0.18559 -0.27261 E">
                                      <p:cBhvr>
                                        <p:cTn id="445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50" dur="123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51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5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53" dur="123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01 0.00856 L -0.3651 0.08254 E">
                                      <p:cBhvr>
                                        <p:cTn id="460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5" dur="123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66" dur="123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68" dur="123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507 -0.04648 E">
                                      <p:cBhvr>
                                        <p:cTn id="475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80" dur="123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81" dur="123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83" dur="123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2 -0.02103 L -0.36996 -0.17525 E">
                                      <p:cBhvr>
                                        <p:cTn id="490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5" dur="123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96" dur="123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8" dur="123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9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243 -0.26012 E">
                                      <p:cBhvr>
                                        <p:cTn id="505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10" dur="123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11" dur="123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13" dur="123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1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798 -0.09295 E">
                                      <p:cBhvr>
                                        <p:cTn id="520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25" dur="123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26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28" dur="123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960" y="2514600"/>
            <a:ext cx="7912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vegetable do Canadians eat the mos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roccoli, carrots, lettuce, or potato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7520" y="492768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tato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84440" y="1604880"/>
            <a:ext cx="3952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OUBL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360" y="403200"/>
            <a:ext cx="8261280" cy="1697040"/>
            <a:chOff x="414360" y="403200"/>
            <a:chExt cx="8261280" cy="169704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62040" y="49536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414360" y="153972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"/>
            <a:stretch/>
          </p:blipFill>
          <p:spPr>
            <a:xfrm>
              <a:off x="1606680" y="110484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4"/>
            <a:stretch/>
          </p:blipFill>
          <p:spPr>
            <a:xfrm>
              <a:off x="7203960" y="40320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5"/>
            <a:stretch/>
          </p:blipFill>
          <p:spPr>
            <a:xfrm>
              <a:off x="6956280" y="144792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"/>
            <a:stretch/>
          </p:blipFill>
          <p:spPr>
            <a:xfrm>
              <a:off x="8148600" y="1012680"/>
              <a:ext cx="52704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5960" y="218124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Canada’s second largest trading partner: Great Britain, Japan, or Mex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71880" y="49276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CANADA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is Canadian company is the world’s largest producer of frozen french fr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67200" y="4994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McCain Foods Ltd.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nancial event that causes a change in financial posi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0" y="493704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business transac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16880" y="503856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opening entr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2560" y="634356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journal entry that starts the account book off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6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is person does no accounting for provincial retail sales ta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200" y="5049720"/>
            <a:ext cx="40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o is the purchase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97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ank document informing the business of a decrease made in the business’s bank accoun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79360" y="49608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bank debit advic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Source documents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97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source document that debits the bank and credits an accounts receiv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33320" y="502776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 cash recei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FINAL JEOPARD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86840" y="5029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531280" y="6278400"/>
            <a:ext cx="390600" cy="311400"/>
          </a:xfrm>
          <a:prstGeom prst="leftArrow">
            <a:avLst>
              <a:gd name="adj1" fmla="val 50000"/>
              <a:gd name="adj2" fmla="val 31358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5638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pin totals and pencil footing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209680" y="1600200"/>
            <a:ext cx="4419720" cy="2971800"/>
            <a:chOff x="2209680" y="1600200"/>
            <a:chExt cx="4419720" cy="2971800"/>
          </a:xfrm>
        </p:grpSpPr>
        <p:sp>
          <p:nvSpPr>
            <p:cNvPr id="439" name=""/>
            <p:cNvSpPr/>
            <p:nvPr/>
          </p:nvSpPr>
          <p:spPr>
            <a:xfrm>
              <a:off x="3886200" y="36576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289320" y="1600200"/>
              <a:ext cx="2565360" cy="2743200"/>
              <a:chOff x="3289320" y="1600200"/>
              <a:chExt cx="2565360" cy="27432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292560" y="1601640"/>
                <a:ext cx="2558880" cy="2739600"/>
                <a:chOff x="3292560" y="1601640"/>
                <a:chExt cx="2558880" cy="273960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3292560" y="1601640"/>
                  <a:ext cx="2558880" cy="325440"/>
                  <a:chOff x="3292560" y="1601640"/>
                  <a:chExt cx="2558880" cy="3254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360960" y="1601640"/>
                    <a:ext cx="242244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Bank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292560" y="1601640"/>
                    <a:ext cx="255888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3292560" y="1927080"/>
                  <a:ext cx="1279440" cy="370440"/>
                  <a:chOff x="3292560" y="1927080"/>
                  <a:chExt cx="1279440" cy="3704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3360960" y="192708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26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92560" y="192708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4572000" y="1927080"/>
                  <a:ext cx="1279440" cy="370440"/>
                  <a:chOff x="4572000" y="1927080"/>
                  <a:chExt cx="1279440" cy="37044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4640400" y="192708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5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572000" y="192708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3292560" y="2297520"/>
                  <a:ext cx="1279440" cy="370080"/>
                  <a:chOff x="3292560" y="2297520"/>
                  <a:chExt cx="1279440" cy="37008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3360960" y="2297520"/>
                    <a:ext cx="114300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292560" y="2297520"/>
                    <a:ext cx="127944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4572000" y="2297520"/>
                  <a:ext cx="1279440" cy="370080"/>
                  <a:chOff x="4572000" y="2297520"/>
                  <a:chExt cx="1279440" cy="3700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640400" y="2297520"/>
                    <a:ext cx="114300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5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572000" y="2297520"/>
                    <a:ext cx="127944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292560" y="2667960"/>
                  <a:ext cx="1279440" cy="370440"/>
                  <a:chOff x="3292560" y="2667960"/>
                  <a:chExt cx="1279440" cy="3704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360960" y="266796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40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292560" y="266796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4572000" y="2667960"/>
                  <a:ext cx="1279440" cy="370440"/>
                  <a:chOff x="4572000" y="2667960"/>
                  <a:chExt cx="1279440" cy="3704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640400" y="266796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650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72000" y="266796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3292560" y="3038400"/>
                  <a:ext cx="1279440" cy="310680"/>
                  <a:chOff x="3292560" y="3038400"/>
                  <a:chExt cx="1279440" cy="3106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360960" y="303840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865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292560" y="303840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572000" y="3038400"/>
                  <a:ext cx="1279440" cy="310680"/>
                  <a:chOff x="4572000" y="3038400"/>
                  <a:chExt cx="1279440" cy="3106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40400" y="303840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3650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72000" y="303840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3292560" y="3349080"/>
                  <a:ext cx="1279440" cy="310680"/>
                  <a:chOff x="3292560" y="3349080"/>
                  <a:chExt cx="1279440" cy="31068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3360960" y="334908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292560" y="334908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572000" y="3349080"/>
                  <a:ext cx="1279440" cy="310680"/>
                  <a:chOff x="4572000" y="3349080"/>
                  <a:chExt cx="1279440" cy="3106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640400" y="334908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572000" y="334908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3292560" y="3660120"/>
                  <a:ext cx="1279440" cy="370440"/>
                  <a:chOff x="3292560" y="3660120"/>
                  <a:chExt cx="1279440" cy="3704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3360960" y="366012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6600"/>
                        </a:solidFill>
                        <a:latin typeface="Times New Roman"/>
                        <a:ea typeface="Times New Roman"/>
                      </a:rPr>
                      <a:t>215</a:t>
                    </a: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92560" y="366012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4572000" y="3660120"/>
                  <a:ext cx="1279440" cy="370440"/>
                  <a:chOff x="4572000" y="3660120"/>
                  <a:chExt cx="1279440" cy="3704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4640400" y="3660120"/>
                    <a:ext cx="114300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572000" y="3660120"/>
                    <a:ext cx="12794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292560" y="4030560"/>
                  <a:ext cx="1279440" cy="310680"/>
                  <a:chOff x="3292560" y="4030560"/>
                  <a:chExt cx="1279440" cy="3106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360960" y="403056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292560" y="403056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4572000" y="4030560"/>
                  <a:ext cx="1279440" cy="310680"/>
                  <a:chOff x="4572000" y="4030560"/>
                  <a:chExt cx="1279440" cy="3106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4640400" y="4030560"/>
                    <a:ext cx="114300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1200" spc="-1" strike="noStrike">
                        <a:solidFill>
                          <a:srgbClr val="eaeaea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572000" y="4030560"/>
                    <a:ext cx="1279440" cy="31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>
                <a:off x="3289320" y="1600200"/>
                <a:ext cx="2565360" cy="27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581280" y="1905120"/>
              <a:ext cx="190512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62640" y="1905120"/>
              <a:ext cx="0" cy="26668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819520" y="3200400"/>
              <a:ext cx="1218960" cy="38088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5028840" y="3276720"/>
              <a:ext cx="1066680" cy="91440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3429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7220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-15228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17080" y="4432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5146560"/>
            <a:ext cx="78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Generally Accepted Accounting Principl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440" y="1981080"/>
            <a:ext cx="795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l regulations and common practices that accountants foll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8360" y="190512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ach expense item must be recorded in the same time period as the revenue it helped to ear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17080" y="4432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9840" y="528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09720" y="490536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Matching Princip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5440" y="2200320"/>
            <a:ext cx="795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accounting for a business should be fair and reason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2960" y="4894200"/>
            <a:ext cx="67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Principle of Conservatism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84440" y="1604880"/>
            <a:ext cx="3952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OUBL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4360" y="403200"/>
            <a:ext cx="8261280" cy="1697040"/>
            <a:chOff x="414360" y="403200"/>
            <a:chExt cx="8261280" cy="169704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62040" y="49536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414360" y="153972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1606680" y="110484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7203960" y="403200"/>
              <a:ext cx="52704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6"/>
            <a:stretch/>
          </p:blipFill>
          <p:spPr>
            <a:xfrm>
              <a:off x="6956280" y="1447920"/>
              <a:ext cx="52704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7"/>
            <a:stretch/>
          </p:blipFill>
          <p:spPr>
            <a:xfrm>
              <a:off x="8148600" y="1012680"/>
              <a:ext cx="52704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8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17080" y="44416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2200" y="502920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Business Entity Conce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8360" y="1905120"/>
            <a:ext cx="76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accounting for a business organization must be kept separate from the personal affairs of its own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Mind the GAAP - $10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5720" y="2222640"/>
            <a:ext cx="74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business will continue to operate unless it is known that it will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52920" y="493884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the Continuing Concern Concep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5960" y="1935000"/>
            <a:ext cx="79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decrease in equity resulting from the owner’s personal withdrawa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880" y="490536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are drawing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00"/>
                </a:solidFill>
                <a:uFillTx/>
                <a:latin typeface="Showcard Gothic"/>
              </a:rPr>
              <a:t>1-2-3 Account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960" y="19350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page specially designed to record changes in each individual item affecting the financial posi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15640" y="44434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9900"/>
                </a:solidFill>
                <a:latin typeface="Showcard Gothic"/>
              </a:rPr>
              <a:t>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318520" y="6178680"/>
            <a:ext cx="390600" cy="311040"/>
          </a:xfrm>
          <a:prstGeom prst="leftArrow">
            <a:avLst>
              <a:gd name="adj1" fmla="val 50000"/>
              <a:gd name="adj2" fmla="val 31395"/>
            </a:avLst>
          </a:prstGeom>
          <a:solidFill>
            <a:srgbClr val="00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82800" y="49370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an accou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21:51:21Z</dcterms:created>
  <dc:creator>Darren Deserranno</dc:creator>
  <dc:description/>
  <dc:language>en-US</dc:language>
  <cp:lastModifiedBy>Laird Laundy</cp:lastModifiedBy>
  <dcterms:modified xsi:type="dcterms:W3CDTF">2005-11-30T00:05:24Z</dcterms:modified>
  <cp:revision>132</cp:revision>
  <dc:subject/>
  <dc:title>PowerPoint Presentation</dc:title>
</cp:coreProperties>
</file>